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266-9E86-4D62-9329-5CC61D7A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379-D5E9-4383-A6DF-BBF71A2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C5F-224D-456C-B7C6-D411188A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403-95FD-42AE-BD48-92F8B706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514-537F-481A-B93F-816D9714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4EB6-B574-49C8-B59C-BD148220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2E6-7EDA-4A4E-8C8B-7F1B5010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95F-47B8-42EF-AFA2-955A668B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8DAD-7D4E-4D48-8DDB-32C7A94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5453-CB1C-41FF-92A7-0AF0869D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6EBB-1B53-48D4-9817-6FBDDED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509-734F-46D6-8A1F-2B19885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698-5E10-452E-AD2E-11736354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4CED-25C6-4FE0-883F-EA5EFC4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0BEA-5A0D-47B3-8072-A456FD3B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2D23-2CAA-4BD5-B7A7-1D5E450D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0187-0183-4973-BFDC-41809BB0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7AA-E6E6-4488-8D33-92FAE5EC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9A0-D775-4C01-B5DB-D5D20AEB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1C1-525D-4D6C-9C5A-C6F88E80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D28-F864-420F-90CB-2D5AF65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485-72FB-48F6-9512-EF027B74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B81-99F2-422A-A84A-15F6047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721-1769-46BA-81E8-A9B61A6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854-2052-438C-B7CA-46858AE52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D3F-FE20-4085-BB7A-FD450C22F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er Kat Man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y Wi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5E49-4028-43F8-89EC-6D2D270FFFBD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walk away knowing where Meer Kats live and the danger in a Meer Kats life. They will also know how long they live and the weather in their loc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bitat, diet, and pred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ra interesting f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could be published on a school site or certain websites for school purposes too help students on reports or for research or inte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stand out because not a lot of people know about Meer Kats and it’s not an animal that you usually think of when you think of anim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4:28Z</dcterms:created>
  <dc:creator/>
  <dc:description/>
  <dc:language>en-US</dc:language>
  <cp:lastModifiedBy>City School</cp:lastModifiedBy>
  <dcterms:modified xsi:type="dcterms:W3CDTF">2013-02-20T19:16:39Z</dcterms:modified>
  <cp:revision>45</cp:revision>
  <dc:subject/>
  <dc:title>The Pitch-Then-Plan Business Planning Template</dc:title>
</cp:coreProperties>
</file>